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13.jpeg" ContentType="image/jpeg"/>
  <Override PartName="/ppt/media/image23.jpeg" ContentType="image/jpeg"/>
  <Override PartName="/ppt/media/image22.jpeg" ContentType="image/jpeg"/>
  <Override PartName="/ppt/media/image20.wmf" ContentType="image/x-wmf"/>
  <Override PartName="/ppt/media/image3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24.jpeg" ContentType="image/jpeg"/>
  <Override PartName="/ppt/media/image15.png" ContentType="image/pn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8ADB-ADC3-426E-8A4B-432A3A7D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E703-DC58-4B0D-A5DA-835BFF28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37D1-BB5E-40D5-B39C-873DC06E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B12D-597F-4F1A-B928-79D672F1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0104-307E-4B3D-8AF9-C800685C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87FB-EB1D-4D98-B679-A7D5E692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6EA1-3C48-4B7E-A3CA-77E79DF0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7EFE-530D-4F78-B9E6-CD86CFCD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6A28-777B-4138-9D78-6E3FC1E2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F4C9-90A2-46F5-B68A-E280C63F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B605-F44A-49C4-9F83-2914C3DC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6C2A-07BB-431E-A972-15A3A354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56D9-E4BB-479D-BA4A-9BC9D904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BEE7-FB89-4481-B60F-4475CA24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D4F9-DD6B-495E-B837-7D451B92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97FD-B1CE-4C7B-8A34-65DF140F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2CC1-EA68-49E5-9766-A3DAA8CF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4D5E-7B0E-48FB-8506-B9BF60B8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1149-ADAA-40ED-9237-48562F8A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4F2F-B9FA-440C-9701-59AFE79C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2ED4-9714-4A2A-993F-33D227C0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C18D-7EB8-4080-8CFC-D854FFCC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C828-6E38-4FAB-A490-863E86A1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1845-0047-42F5-90D7-F7BE7EE8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9471-FD16-4E5D-8C62-D97E36AF2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686A-9258-4A6F-91FE-61222EE77A7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r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ri Ander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speed of light in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mond (n=2.4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Rectangle 10"/>
          <p:cNvGraphicFramePr/>
          <p:nvPr/>
        </p:nvGraphicFramePr>
        <p:xfrm>
          <a:off x="1600200" y="2666880"/>
          <a:ext cx="9270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Rectangle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666880"/>
                    <a:ext cx="927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Rectangle 10"/>
          <p:cNvGraphicFramePr/>
          <p:nvPr/>
        </p:nvGraphicFramePr>
        <p:xfrm>
          <a:off x="1600200" y="3773520"/>
          <a:ext cx="22860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Rectangle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773520"/>
                    <a:ext cx="2286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606680" y="4876920"/>
          <a:ext cx="2425680" cy="44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6680" y="4876920"/>
                    <a:ext cx="24256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at happens when light travels from less to more dense material?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593640" y="2057400"/>
            <a:ext cx="3597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light encounters the boundary, it is partially reflected and partially transmit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light travels from air to water, it slows dow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it slows down, the ray bends towards the norm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ngle the light ray makes with the normal in the water is less than the angle in a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267080" y="1981080"/>
          <a:ext cx="44388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4438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at happens when light travels from more to less dense material?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93640" y="2057400"/>
            <a:ext cx="3597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light encounters the boundary, it is partially reflected and partially transmit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light travels from water to air, it speeds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it speeds up, the ray bends away from the norm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ngle the light ray makes with the normal in the water is greater than the angle in a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419720" y="2057400"/>
          <a:ext cx="4476600" cy="31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057400"/>
                    <a:ext cx="447660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arent Dep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4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hange in the path of the ray causes the perception that the object is not as far down as it truly 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F26"/>
          <p:cNvPicPr/>
          <p:nvPr/>
        </p:nvPicPr>
        <p:blipFill>
          <a:blip r:embed="rId1"/>
          <a:stretch/>
        </p:blipFill>
        <p:spPr>
          <a:xfrm>
            <a:off x="5373720" y="0"/>
            <a:ext cx="3770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nell’s La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4459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light travels to a medium with a higher n, it slows down and bends toward the norm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Snell’s Law to determine the angle of refra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ngles are measured from the n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Object 4"/>
          <p:cNvGraphicFramePr/>
          <p:nvPr/>
        </p:nvGraphicFramePr>
        <p:xfrm>
          <a:off x="914400" y="4419720"/>
          <a:ext cx="3886200" cy="78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419720"/>
                    <a:ext cx="38862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5"/>
          <p:cNvGraphicFramePr/>
          <p:nvPr/>
        </p:nvGraphicFramePr>
        <p:xfrm>
          <a:off x="5486400" y="1981080"/>
          <a:ext cx="3371760" cy="371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1981080"/>
                    <a:ext cx="337176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18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light is traveling from air to glass (n=1.5) and hits the glass at an angle of 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normal, what angle will the refracted ray make with the normal in the water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1676520" y="3657600"/>
          <a:ext cx="25905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657600"/>
                    <a:ext cx="25905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6019920" y="3429000"/>
            <a:ext cx="2361960" cy="1770480"/>
            <a:chOff x="6019920" y="3429000"/>
            <a:chExt cx="2361960" cy="1770480"/>
          </a:xfrm>
        </p:grpSpPr>
        <p:sp>
          <p:nvSpPr>
            <p:cNvPr id="161" name=""/>
            <p:cNvSpPr/>
            <p:nvPr/>
          </p:nvSpPr>
          <p:spPr>
            <a:xfrm>
              <a:off x="6019920" y="4419720"/>
              <a:ext cx="2361960" cy="761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15000" y="3892680"/>
              <a:ext cx="49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ir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19320" y="4800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las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86600" y="342900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00800" y="3429000"/>
              <a:ext cx="685800" cy="990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7086600" y="4419720"/>
            <a:ext cx="304920" cy="914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703520" y="4191120"/>
          <a:ext cx="3297240" cy="241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3520" y="4191120"/>
                    <a:ext cx="329724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18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light is traveling from water (n=1.33) to air and hits the air at an angle of 4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normal, what angle will the refracted ray make with the normal in the water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1676520" y="3657600"/>
          <a:ext cx="25905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657600"/>
                    <a:ext cx="25905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6095880" y="3581280"/>
            <a:ext cx="990720" cy="838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019920" y="3429000"/>
            <a:ext cx="2364480" cy="1981080"/>
            <a:chOff x="6019920" y="3429000"/>
            <a:chExt cx="2364480" cy="1981080"/>
          </a:xfrm>
        </p:grpSpPr>
        <p:sp>
          <p:nvSpPr>
            <p:cNvPr id="175" name=""/>
            <p:cNvSpPr/>
            <p:nvPr/>
          </p:nvSpPr>
          <p:spPr>
            <a:xfrm>
              <a:off x="6019920" y="4419720"/>
              <a:ext cx="2361960" cy="761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15000" y="3892680"/>
              <a:ext cx="49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ir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20760" y="480060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water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86600" y="342900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86600" y="4419720"/>
              <a:ext cx="609480" cy="99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180" name=""/>
          <p:cNvGraphicFramePr/>
          <p:nvPr/>
        </p:nvGraphicFramePr>
        <p:xfrm>
          <a:off x="1636560" y="4267080"/>
          <a:ext cx="3544920" cy="15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6560" y="4267080"/>
                    <a:ext cx="35449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otal Internal Reflec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light goes from a more dense to a less dense material, none of the light passes into the less dense mater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the light reflects into the more dense mater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critical ang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581280" cy="36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the critical angle of incidence, the angle of refraction is 90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791320" y="3124080"/>
            <a:ext cx="2364480" cy="1981080"/>
            <a:chOff x="5791320" y="3124080"/>
            <a:chExt cx="2364480" cy="1981080"/>
          </a:xfrm>
        </p:grpSpPr>
        <p:sp>
          <p:nvSpPr>
            <p:cNvPr id="187" name=""/>
            <p:cNvSpPr/>
            <p:nvPr/>
          </p:nvSpPr>
          <p:spPr>
            <a:xfrm>
              <a:off x="5791320" y="4114800"/>
              <a:ext cx="2361960" cy="761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286400" y="3587760"/>
              <a:ext cx="49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ir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92160" y="449568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water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58000" y="312408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58000" y="4114800"/>
              <a:ext cx="609480" cy="99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2" name=""/>
          <p:cNvSpPr/>
          <p:nvPr/>
        </p:nvSpPr>
        <p:spPr>
          <a:xfrm flipH="1">
            <a:off x="5714640" y="411480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701028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6484320" y="5416560"/>
            <a:ext cx="219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ritical ang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inci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5399280" y="2368440"/>
            <a:ext cx="296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ngle of refrac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90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6172200" y="304812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otal Internal Reflec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581280" cy="36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he angle of incidence is greater than or equal to the critical angle, all the light is internally reflec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791320" y="3124080"/>
            <a:ext cx="2364480" cy="1981440"/>
            <a:chOff x="5791320" y="3124080"/>
            <a:chExt cx="2364480" cy="1981440"/>
          </a:xfrm>
        </p:grpSpPr>
        <p:sp>
          <p:nvSpPr>
            <p:cNvPr id="200" name=""/>
            <p:cNvSpPr/>
            <p:nvPr/>
          </p:nvSpPr>
          <p:spPr>
            <a:xfrm>
              <a:off x="5791320" y="4114800"/>
              <a:ext cx="2361960" cy="762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86400" y="3587760"/>
              <a:ext cx="49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ir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92160" y="449568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water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0" y="312408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58000" y="4114800"/>
              <a:ext cx="990720" cy="990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" name=""/>
          <p:cNvSpPr/>
          <p:nvPr/>
        </p:nvSpPr>
        <p:spPr>
          <a:xfrm flipH="1">
            <a:off x="5867280" y="4114800"/>
            <a:ext cx="990720" cy="99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01028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6487200" y="5416560"/>
            <a:ext cx="16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rger t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ang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inci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4343400" y="243828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ight is reflected back into the new mater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35812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rms you should kn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aque – light cannot pass through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lucent – Some light passes thr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parent – all light passes thr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ght can only be refracted through translucent or transparent med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tal Internal Ref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593640" y="1866960"/>
            <a:ext cx="3826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critical angle, the refracted light is on the boundary of the two materia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angle of incidence is greater than the critical angle, no passes through to the next lay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ight is internally reflec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22928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4360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do you calculate the critical ang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5" name="Object 4"/>
          <p:cNvGraphicFramePr/>
          <p:nvPr/>
        </p:nvGraphicFramePr>
        <p:xfrm>
          <a:off x="1600200" y="1981080"/>
          <a:ext cx="358128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81080"/>
                    <a:ext cx="35812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584360" y="2825640"/>
            <a:ext cx="68738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ight is traveling from a more optically dense medium to air,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1 and sin(9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=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676520" y="3733920"/>
                <a:ext cx="22860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1504800" y="5264280"/>
            <a:ext cx="628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happens to the critical angle as n gets larg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 the critical angle for diamond, whose index of refraction is 2.42 to that of water, whose index of refraction is 1.3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600200" y="3124080"/>
                <a:ext cx="1828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23" name=""/>
          <p:cNvGraphicFramePr/>
          <p:nvPr/>
        </p:nvGraphicFramePr>
        <p:xfrm>
          <a:off x="1523880" y="3962520"/>
          <a:ext cx="310860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962520"/>
                    <a:ext cx="310860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ulate the critical angle for water, whose index of refraction is 1.3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600200" y="3124080"/>
                <a:ext cx="1828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28" name=""/>
          <p:cNvGraphicFramePr/>
          <p:nvPr/>
        </p:nvGraphicFramePr>
        <p:xfrm>
          <a:off x="1523880" y="4192560"/>
          <a:ext cx="310860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192560"/>
                    <a:ext cx="310860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ulate the critical angle for diamond, whose index of refraction is 2.4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600200" y="3124080"/>
                <a:ext cx="1828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33" name=""/>
          <p:cNvGraphicFramePr/>
          <p:nvPr/>
        </p:nvGraphicFramePr>
        <p:xfrm>
          <a:off x="1417680" y="4192560"/>
          <a:ext cx="332100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7680" y="4192560"/>
                    <a:ext cx="332100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do diamonds spark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4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wing of a diamond in cross s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ce the flat top and slanting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critical angle means light is reflected through top of st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6171840" y="2590560"/>
            <a:ext cx="1219680" cy="838440"/>
            <a:chOff x="6171840" y="2590560"/>
            <a:chExt cx="1219680" cy="838440"/>
          </a:xfrm>
        </p:grpSpPr>
        <p:sp>
          <p:nvSpPr>
            <p:cNvPr id="238" name=""/>
            <p:cNvSpPr/>
            <p:nvPr/>
          </p:nvSpPr>
          <p:spPr>
            <a:xfrm>
              <a:off x="6324480" y="259092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38880" y="2590920"/>
              <a:ext cx="15264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6781680" y="2743200"/>
              <a:ext cx="60984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6171840" y="2742840"/>
              <a:ext cx="60948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6172200" y="259056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934320" y="1828800"/>
            <a:ext cx="0" cy="762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2590920"/>
            <a:ext cx="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6705720" y="30481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629040" y="3276720"/>
            <a:ext cx="3049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6629400" y="2590560"/>
            <a:ext cx="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629400" y="1904760"/>
            <a:ext cx="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477120" y="30481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6857640" y="3124080"/>
            <a:ext cx="3049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6004080" y="4578480"/>
            <a:ext cx="268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is angle is greater than the critical angle, no light leaves the diamon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lications – Fiber Op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3" name="Picture 4" descr="F26"/>
          <p:cNvPicPr/>
          <p:nvPr/>
        </p:nvPicPr>
        <p:blipFill>
          <a:blip r:embed="rId1"/>
          <a:stretch/>
        </p:blipFill>
        <p:spPr>
          <a:xfrm>
            <a:off x="533520" y="2513160"/>
            <a:ext cx="835812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lications - 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5" name="Picture 4" descr="F26"/>
          <p:cNvPicPr/>
          <p:nvPr/>
        </p:nvPicPr>
        <p:blipFill>
          <a:blip r:embed="rId1"/>
          <a:stretch/>
        </p:blipFill>
        <p:spPr>
          <a:xfrm>
            <a:off x="457200" y="2057400"/>
            <a:ext cx="3600360" cy="48006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F26"/>
          <p:cNvPicPr/>
          <p:nvPr/>
        </p:nvPicPr>
        <p:blipFill>
          <a:blip r:embed="rId2"/>
          <a:stretch/>
        </p:blipFill>
        <p:spPr>
          <a:xfrm>
            <a:off x="4532400" y="2057400"/>
            <a:ext cx="4078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lection &amp; Refr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 light wave encounters a change in media, some of the light will be reflected and some will pass through and be refrac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tical density is a property of a material that determines how much light will slow down in the material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refraction?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causes refrac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light travels from one medium to another, its speed changes and its direction of travel chan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hange in speed causes the change in direction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ndex of Refraction?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e of optical density, tells how much light will slow down in the med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bol: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ts: n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the speed of light in vacuum,         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 is the speed of light in the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5105520" y="3124080"/>
          <a:ext cx="121284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124080"/>
                    <a:ext cx="1212840" cy="1295640"/>
                  </a:xfrm>
                  <a:prstGeom prst="rect">
                    <a:avLst/>
                  </a:prstGeom>
                  <a:ln w="255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ical Values of Index of Refr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ai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1.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rown glas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1.5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wate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1.3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diamo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2.4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a complete list, see table in textboo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ices of Refraction for Human Ey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66680" y="1762200"/>
            <a:ext cx="693432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speed of light in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 (n=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Rectangle 10"/>
          <p:cNvGraphicFramePr/>
          <p:nvPr/>
        </p:nvGraphicFramePr>
        <p:xfrm>
          <a:off x="1600200" y="2666880"/>
          <a:ext cx="9270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Rectangle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666880"/>
                    <a:ext cx="927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Rectangle 10"/>
          <p:cNvGraphicFramePr/>
          <p:nvPr/>
        </p:nvGraphicFramePr>
        <p:xfrm>
          <a:off x="1600200" y="3738600"/>
          <a:ext cx="2286000" cy="9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Rectangle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738600"/>
                    <a:ext cx="228600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676520" y="4876920"/>
          <a:ext cx="2286000" cy="44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876920"/>
                    <a:ext cx="228600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speed of light in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ter (n=1.3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5" name="Rectangle 10"/>
          <p:cNvGraphicFramePr/>
          <p:nvPr/>
        </p:nvGraphicFramePr>
        <p:xfrm>
          <a:off x="1600200" y="2666880"/>
          <a:ext cx="9270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Rectangle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666880"/>
                    <a:ext cx="927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Rectangle 10"/>
          <p:cNvGraphicFramePr/>
          <p:nvPr/>
        </p:nvGraphicFramePr>
        <p:xfrm>
          <a:off x="1600200" y="3763800"/>
          <a:ext cx="228600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Rectangle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763800"/>
                    <a:ext cx="228600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592280" y="4876920"/>
          <a:ext cx="2454120" cy="44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92280" y="4876920"/>
                    <a:ext cx="245412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20:38:08Z</dcterms:created>
  <dc:creator>Lori Andersen</dc:creator>
  <dc:description/>
  <dc:language>en-US</dc:language>
  <cp:lastModifiedBy>YCSD</cp:lastModifiedBy>
  <dcterms:modified xsi:type="dcterms:W3CDTF">2009-05-05T16:41:50Z</dcterms:modified>
  <cp:revision>26</cp:revision>
  <dc:subject/>
  <dc:title>Refraction</dc:title>
</cp:coreProperties>
</file>